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440-4A20-4E1F-BE72-2933E8D7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B0C-9512-4F6E-868B-B58CE624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CD7-041F-4DF9-8307-43B212DE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575-EDC6-4EBB-AE57-88C4DECC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711C-09B3-4A7A-B3C4-B44CF427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CFF2-DF29-42C6-B913-0F2D370B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53B-C864-4AB0-93E2-2FCCDB27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8DBF-3C9D-49EC-92D1-D1CA9BD1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A1E1-3A72-42E4-A1B9-67F471D7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7667-42A8-4A82-8F92-86EB2F9B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6993-50CF-44BB-96CF-B156EFA6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896-778A-46D6-8C97-7CA7CA06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E96F-AA56-47E2-BF71-451A8D7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B6BF-2021-411C-A776-40B64DD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386E-B501-40EB-AE43-924D4986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1CA7-3985-4CEB-B60D-BAA72022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741D-967C-478C-BDE3-589E00C9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DE4-F2B6-46F7-A3DF-07295764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B65-9846-4EE5-A9C2-C978ABAA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8F5-8C4E-4E0A-90F3-F57BF7B4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344-38B4-473B-86E5-4CCF2152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EBB-1B6A-4785-8A2F-743864B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ABB-4865-45C1-8ADB-2D646A32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F11-5E88-4AF1-8830-ADB50A0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235F-05A7-4EC5-9D70-032C855670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BCF2-3368-4929-86C2-25A001057D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SINGLE ROW FUNCTION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MBERS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B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e absolute value of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(10) =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(-5.8) = 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EIL, FLOO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eil(n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LOOR(n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IL returns the smallest integer that is greater or equal to 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R returns the largest integer that is smaller or equal to 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EIL, FLOOR Exampl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EIL(n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IL(2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IL(1.3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IL(1.8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IL(-2.3) 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OR(n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OR(2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OR(1.3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OR(1.8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OR(-2.3) =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n1,n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 divides n1 by n2 and tells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100,1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22,23) =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-30.2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cc"/>
                </a:solidFill>
                <a:latin typeface="Courier New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0" lang="en-US" sz="2800" spc="-1" strike="noStrike">
                <a:solidFill>
                  <a:srgbClr val="33cc33"/>
                </a:solidFill>
                <a:latin typeface="Courier New"/>
              </a:rPr>
              <a:t>-2.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lnSpc>
                <a:spcPct val="10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urier New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(-4) +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(–2.2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- 3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4.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cc"/>
                </a:solidFill>
                <a:latin typeface="Courier New"/>
              </a:rPr>
              <a:t>0.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0" lang="en-US" sz="2800" spc="-1" strike="noStrike">
                <a:solidFill>
                  <a:srgbClr val="33cc33"/>
                </a:solidFill>
                <a:latin typeface="Courier New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lnSpc>
                <a:spcPct val="10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urier New"/>
              </a:rPr>
              <a:t>0.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 13 +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0.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76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n1,n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3,2) =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3,3) = 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3,1.086)=3.297263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64,0.5)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U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02248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UND(value,prec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55.5) =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33.3) =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-55.5) = -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-33.3) = 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5.9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,2) = 4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45.923,2) = 45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926,-1)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926,-1) =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45.926,-2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65.926,-2)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UNC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02248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NC(value,prec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55.5) = 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33.3) =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-55.5) = -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-33.3) = 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5.9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,2) = 45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45.923,2) = 45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926,-1)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926,-1) =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45.926,-2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65.926,-2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8:30:48Z</dcterms:created>
  <dc:creator>carmen</dc:creator>
  <dc:description/>
  <dc:language>en-US</dc:language>
  <cp:lastModifiedBy>kome</cp:lastModifiedBy>
  <dcterms:modified xsi:type="dcterms:W3CDTF">2007-09-18T17:42:20Z</dcterms:modified>
  <cp:revision>46</cp:revision>
  <dc:subject/>
  <dc:title>SINGLE ROW FUNCTIONS</dc:title>
</cp:coreProperties>
</file>